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6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7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8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701D3-4052-41A9-9921-7E3AD4268A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21840-1F54-4A0D-BD93-E0BAC36D69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s of activity-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ver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3BC44-E5F1-4441-B635-972FA91BDA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CFE7A-1D28-4E86-9D95-2664B36343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51F2D-194A-401B-92B2-76AB2AEAFB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C9294-F0B7-4171-8754-B6227EF184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38B17-30DD-42EF-8FEA-C6DF9AF4B3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80F89-C7B5-4CAB-B3D3-69A9231AEE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D050F-18B8-445E-8002-83C1887BBA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6DA7D-5B5B-431D-8CD1-786AC11BE2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ity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C4FE7-6496-4677-82C9-5F04F5C25F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0F6EBF-84B1-4F12-A6C6-6B4E55B12B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5DFD7A-C47C-4F29-9A65-22124AE675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0109A7-F6C2-41EC-8F6C-BAA89EE4B4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06B12F-FDC5-4AC4-AFBA-5A595DC69B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FFBEFB-8A0B-4598-A72E-039FA2B4F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56E5FB-F4E8-4496-8354-CD16D69B0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6925A1-3BBB-45B9-A7A7-08FC715DD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86833B-2D33-47D5-A2DB-9980AA63D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2D97D2-E152-4805-8DFB-8692FA365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6094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91A7D8-1030-48B4-AE06-5DD6224EB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BC66B2-C014-43ED-9F63-296C4828B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49B79E-8635-4056-95EF-61D56E0CB8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96BB30-E830-40BE-8498-71E0992EE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BC5556-6C5B-44DC-88D0-2433271C4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3EF0D2-4227-4312-981D-79FB4673E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7EC83A-0C98-4BF0-B990-1D43F9B45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DF6455-005A-4516-94D5-992A90859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D80A09-C032-4AC4-8AF2-705AF390EB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AFFEC4-3660-47F4-9232-C286B90E7B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E9CF36-C588-4696-8DD8-D774BA9242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6094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DAA61C-BE6B-4E5C-96D3-73A5B5FAA3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372E70-58F7-4771-B00C-561CF30AAA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612C6F-42FA-4C7D-90E1-9E0B45D5DB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F5BDF8-0EAA-46E0-9B6E-20DFF014E9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095880"/>
            <a:ext cx="4114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606EB-B5D8-4610-8BC4-91CEA2B62E9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AB80F-D404-4141-AD12-4A3BEAD3566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estgard Multirule Syste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066320"/>
            <a:ext cx="762012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“multi-rule” system developed by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r. James O. Westgard based on statistical concep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combination of decision criteria or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ules to assess if a system is in contro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when at least 2 levels of control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e run with the examination ru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nnot use with only one contro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5" name="Picture 9" descr="westgard_lecturing"/>
          <p:cNvPicPr/>
          <p:nvPr/>
        </p:nvPicPr>
        <p:blipFill>
          <a:blip r:embed="rId1"/>
          <a:stretch/>
        </p:blipFill>
        <p:spPr>
          <a:xfrm>
            <a:off x="2971800" y="4191120"/>
            <a:ext cx="3657600" cy="236844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10"/>
          <p:cNvSpPr/>
          <p:nvPr/>
        </p:nvSpPr>
        <p:spPr>
          <a:xfrm>
            <a:off x="6095880" y="4495680"/>
            <a:ext cx="2210040" cy="3988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Dr. Westg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9A16EB-6E52-4A21-A44A-528AB9A93B7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8305920" cy="281952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457200" y="3429000"/>
            <a:ext cx="8358120" cy="2832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59F7C1-47EE-4EB0-8DCE-50857485970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55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Answers for activit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447920"/>
            <a:ext cx="83059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21, 22, 24, 26, 27, 30, 31, 33, 34, 36-44 – in control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23, 28, 29 – 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2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25 - 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3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32 – 2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2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35 - 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4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56BDA2-2AA2-4207-8648-8578F2F70E7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Footer Placeholder 1"/>
          <p:cNvSpPr/>
          <p:nvPr/>
        </p:nvSpPr>
        <p:spPr>
          <a:xfrm>
            <a:off x="457200" y="6248520"/>
            <a:ext cx="4343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2296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Multirule System Titles</a:t>
            </a: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br>
              <a:rPr sz="2400"/>
            </a:b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657600" cy="252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0000"/>
          </a:bodyPr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2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3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2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R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4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1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10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657600" y="1599840"/>
            <a:ext cx="4191120" cy="15238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Text Box 8"/>
          <p:cNvSpPr/>
          <p:nvPr/>
        </p:nvSpPr>
        <p:spPr>
          <a:xfrm>
            <a:off x="4419720" y="1600200"/>
            <a:ext cx="3809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Used when 2 levels of control material are analyzed per ru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9"/>
          <p:cNvSpPr/>
          <p:nvPr/>
        </p:nvSpPr>
        <p:spPr>
          <a:xfrm>
            <a:off x="1752480" y="5486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11" descr="j0082253"/>
          <p:cNvPicPr/>
          <p:nvPr/>
        </p:nvPicPr>
        <p:blipFill>
          <a:blip r:embed="rId1"/>
          <a:stretch/>
        </p:blipFill>
        <p:spPr>
          <a:xfrm>
            <a:off x="6019920" y="3124080"/>
            <a:ext cx="2501640" cy="30481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80179E-7176-40E7-AD8C-D727F45C45A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1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2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WARNING RULE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– not cause for rejecting a ru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ne of two control results falls outside ±2S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erts technologist to possible problem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st then evaluate the 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3S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u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FA7AAD-3AD6-4C76-A70C-0F88678D78B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antitative QC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01640"/>
            <a:ext cx="8229600" cy="7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2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2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wo consecutive control values for the same level fall outside of ±2SD in the same direction, 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oth controls in the same run exceed ±2SD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atient results cannot be reporte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s corrective ac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17FBC3-087E-40AA-877F-524635F94E7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R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4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ne control exceeds the mean by –2SD, and the other control exceeds the mean by +2S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range between the two results will therefore exceed 4 S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andom error has occurred, test run must be rejecte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38EDC4-558F-4CFB-A1DA-DA9CFC078B3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4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1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7848360" cy="366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s control data from previous ru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 consecutive QC results for one level of control are outside ±1SD, 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oth levels of control have consecutive results that are outside ±1S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B513E0-C8FF-436B-8735-EAAA6F2404C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10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X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8229600" cy="333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s control data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evious ru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en consecutive QC results for one level of control are on one side of the mean, 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oth levels of control have five consecutive results that are on the same side of the me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Line 5"/>
          <p:cNvSpPr/>
          <p:nvPr/>
        </p:nvSpPr>
        <p:spPr>
          <a:xfrm>
            <a:off x="4724280" y="838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12D2B4-F2F9-467A-9CA1-96EDF3C11A9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Westgard Multirule QC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47" name="Picture 3" descr="flow3"/>
          <p:cNvPicPr/>
          <p:nvPr/>
        </p:nvPicPr>
        <p:blipFill>
          <a:blip r:embed="rId1"/>
          <a:stretch/>
        </p:blipFill>
        <p:spPr>
          <a:xfrm>
            <a:off x="762120" y="1295280"/>
            <a:ext cx="7772400" cy="481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3158C4-5C6B-4442-990C-CF3EE0B18EC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65280"/>
            <a:ext cx="7772400" cy="66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99"/>
                </a:solidFill>
                <a:latin typeface="Verdana"/>
              </a:rPr>
              <a:t>Activity</a:t>
            </a:r>
            <a:br>
              <a:rPr sz="3800"/>
            </a:br>
            <a:endParaRPr b="0" lang="en-US" sz="38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837720" y="1371600"/>
            <a:ext cx="7239240" cy="287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Verdana"/>
              </a:rPr>
              <a:t>Using the Westgard Multirule System, describe the control values for each day in the following slide.</a:t>
            </a:r>
            <a:endParaRPr b="0" lang="en-US" sz="4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5FB6B6-C665-44BB-A068-93B1CFFFF9E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8T02:26:00Z</dcterms:created>
  <dc:creator>Robin Barteluk</dc:creator>
  <dc:description/>
  <dc:language>en-US</dc:language>
  <cp:lastModifiedBy>Robin Barteluk</cp:lastModifiedBy>
  <dcterms:modified xsi:type="dcterms:W3CDTF">2008-11-27T20:41:53Z</dcterms:modified>
  <cp:revision>4</cp:revision>
  <dc:subject/>
  <dc:title>Westgard Multirule System</dc:title>
</cp:coreProperties>
</file>